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B99-7278-4AE4-9810-79C347EA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63F-3B9D-433B-B1BC-0B3AEA0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8A6-D21A-4575-AF32-CF7508C9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321-0E7B-4F42-88D0-FFADDD6C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4A2-B8FE-4713-9B6A-3F10AAE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EB6-EC9A-43CE-AC61-A278ECA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E73-18A2-4DB5-95CE-695EF81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3DE-F2BE-4597-A4D8-1B12E108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9D5-200E-4189-A659-E7B3E92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0FD-38C5-4E6D-9DC8-37DDD85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C2F-E34B-47B9-B93C-BB5DA7FA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EB-7D2C-4EE4-8EE8-055C7CF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740-0FF7-4A0C-9173-DF376F951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142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500" spc="-1" strike="noStrike">
                <a:solidFill>
                  <a:srgbClr val="ffff00"/>
                </a:solidFill>
                <a:latin typeface="Times New Roman"/>
              </a:rPr>
              <a:t>Considerazioni sull’anatomia e sulla fisiologia delle vie aeree nei bambini.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 canalicolar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(I)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la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zia l'organizzazione strutturale del parenchima polmonar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l mesenchima 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zia nelle strutture muscolari e cartilaginee della parete bronchi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coli e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tilagini bronchiali crescon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gli ili verso la periferi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l mesenchima, si sviluppa una rete vascolare sempre più fit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intensific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ascolarizzazione dell'interstizio polmonare ed inizia lo sviluppo della innervazione che trae origine dalle fibre nervose di derivazione ectoderm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 canalicolare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I)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la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ellule epiteliali più distali tendono ad assottigliarsi, assumendo sempre più i caratteri dei pneumociti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inuis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iva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 spessore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nchima interposto tra epitelio e capillari, si sviluppano i bronchioli respiratori, ciascuno dei quali termina in due o tre sacculi terminali o alveoli primitiv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16360" cy="37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796000" y="632448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McCray et al.  AJCMB 1993; 8: 57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sacculare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la 2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 3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)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sviluppano prevalentemente le strutture periferiche che saranno deputate, nel periodo postnatale, agli scambi gassos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ellule epiteliali cuboidali (di tipo II) e sottili (di tip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 iniziano a tap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zare gli spazi aer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enta notevolmente il numero dei sacculi, terminazioni distali delle vie aeree a fondo cieco, che si suddividono in seguito alla formazione di setti nel loro intern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crea così un numero sempre crescente di ectasie delle pareti, da cui prenderanno origine gli alveoli: i bronchioli terminali più periferici si differenziano così in bronchioli respirato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alveolare 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la 3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 al termin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a fas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caratterizzat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lla maturazione "finale" del polm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ttili setti secondari, che nascono dalle pareti dei sacculi più grandi, crescono entro il lume e formano le pareti dei veri e propri alveoli, accrescendo così la superficie che consentirà lo scambio di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alveolare 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la 3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 al termine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perfeziona la differenziazione morfologica e funzionale dei pneumociti in cellule di tipo I e di tipo I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zia la produzione di surfattante alveolare da parte dei pneumociti di tipo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67080" y="2209680"/>
            <a:ext cx="4495680" cy="3504960"/>
            <a:chOff x="4267080" y="2209680"/>
            <a:chExt cx="4495680" cy="3504960"/>
          </a:xfrm>
        </p:grpSpPr>
        <p:graphicFrame>
          <p:nvGraphicFramePr>
            <p:cNvPr id="86" name=""/>
            <p:cNvGraphicFramePr/>
            <p:nvPr/>
          </p:nvGraphicFramePr>
          <p:xfrm>
            <a:off x="4267080" y="2209680"/>
            <a:ext cx="4495680" cy="350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2209680"/>
                      <a:ext cx="4495680" cy="35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" name=""/>
            <p:cNvGrpSpPr/>
            <p:nvPr/>
          </p:nvGrpSpPr>
          <p:grpSpPr>
            <a:xfrm>
              <a:off x="4757400" y="2209680"/>
              <a:ext cx="4005000" cy="3449520"/>
              <a:chOff x="4757400" y="2209680"/>
              <a:chExt cx="4005000" cy="3449520"/>
            </a:xfrm>
          </p:grpSpPr>
          <p:sp>
            <p:nvSpPr>
              <p:cNvPr id="89" name=""/>
              <p:cNvSpPr/>
              <p:nvPr/>
            </p:nvSpPr>
            <p:spPr>
              <a:xfrm>
                <a:off x="4757400" y="2209680"/>
                <a:ext cx="0" cy="344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2400" y="2209680"/>
                <a:ext cx="0" cy="344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57400" y="2209680"/>
                <a:ext cx="4005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57400" y="5659200"/>
                <a:ext cx="4005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258520" y="6248520"/>
            <a:ext cx="36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Henderson WR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JRCCM 2002;165: 108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odo postnatal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momento della nascita sono riconoscibili circa 25-50 milioni di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e simil-alveolar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 assumeranno l'aspetto di alveoli maturi soltanto dopo circa due mesi di vita, per effetto dell'adattamento alla respirazi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loro numer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no ai primi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8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i di vita, quando raggiun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300 milioni cir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aumento del numero degli alveoli si realizza con modalità simili a quelle della vita intrauterina, cioè per l'u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ore segmentazione delle strutture alveolari già esistenti e per l'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veolarizzazione dei bronchio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ivamente l'accrescimento dei polmoni continua sino 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à adulta, realizzandosi però soltanto nel senso di un incremento di volume, proporzionale all'aumento delle dimensioni corpo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polmone alla nascita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nte la transizione tra la vita intrauterina e la vita extrauterin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vengono molt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biamenti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li e funziona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tessu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mon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a nascita i polmoni contengono circa 30ml/kg di liquido polmonare fetale che deve essere eliminato per permettere il normale scambio di g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ò avviene in parte (1/3 del volume totale) meccanicamente durante il parto ed in parte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b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 da par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'epiteli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veol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mancat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zione de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quido polmonare fet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 nascita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 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urb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pirator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osciuti come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e del polmone umid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hipnea transitoria nel neonat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Times New Roman"/>
              </a:rPr>
              <a:t>Indic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Lo sviluppo dell’apparato respiratori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L’anatomia delle vie aer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Fisiopatologia respiratori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338560"/>
            <a:ext cx="84582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Times New Roman"/>
              </a:rPr>
              <a:t>Lo sviluppo dell’apparato respiratorio.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tà embriologiche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523520"/>
            <a:ext cx="8407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sviluppo delle strutture de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ppara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piratorio inizia nell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 di vita intrauterina, quando l'embrione ha una lunghezza di circa 3 mm, e termina con la fine dello sviluppo corporeo, al termine dell'adolescenz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ttavia, anche nell'età adult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ppara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piratorio può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are incontro a fasi di accrescimento compensatorio (per esempio dopo interventi chirurgici di exeresi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re soggetto a processi di rimodellamento strutturale (per esempio, dopo processi infettivi acuti o cronic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ire  progressive modificazioni connesse alla senescenz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l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o pre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 post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a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le profonde differenze "ambientali", lo sviluppo del sistema respiratorio può essere suddiviso in due period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 periodo prenat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 cui la vita si svolge in ambiente acque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iodo postnat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 cui la vita si svolge nell'atmosf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5 fasi del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odo prenatale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rescita e lo sviluppo intrauterino del polmone sono stati suddivisi in 5 fasi, identificate con nomi che riflettono gli aspetti istologici del polmone o si riferiscono alle regioni che si stanno maggiormente sviluppando in quel period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la fase embrionale (dal 26° al 52° giorno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la fase pseudoghiandolare (dal 52° giorno alla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la fase canalicolare (dalla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la fase sacculare (dalla 2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a 3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la fase alveolare (dalla 3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 al termin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embrionale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 26° al 52° giorno)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mponenti epiteliali polmon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onchiale 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veolare, riconoscono un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e endodermic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atti, lo sviluppo dell'apparato respiratorio si realizza a partire da un solc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cia laringo tracheale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 si forma all'interno della faccia ventrale dell'intestino primitivo nel corso della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 di vita intrauteri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embrionale 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 26° al 52° giorno)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a settimana successiva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ccia si approfondisce, dando luogo ad una estroflessione ventrale che protrude nel mesenchima circostante, sino a separarsi dall'intestino primitivo ed a costituire il primo abbozzo del polm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786280" y="1828800"/>
          <a:ext cx="279720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1828800"/>
                    <a:ext cx="279720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804560" y="63104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arburton D et al. AJRCCM 2001;164: s59-s6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se pseudoghiandolare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l 52° giorno alla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a)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corso delle 2-3 settimane successive compaiono gli abbozzi dei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onchi principal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ivament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bronchi segmentari e quelli di calibro mino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amificazione bronchiale continua, c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gendo sia l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eli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mesenchim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Quest’ultimo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differenzia progressivamente in cartilagine, in muscolo liscio ed in tessuto connettiv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a fine del periodo pseudoghiandolare si sono formate le vie aeree di conduzione principali, compresi i bronchioli terminali: in pratica circa il 75% dell'intera ramificazione dell'albero respirato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questa fase le vie aeree sono tappezzate da epitelio cilindrico o cubico e non sono ancora riconoscibili gli abbozzi delle strutture destinate agli scambi gasso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4:34Z</dcterms:created>
  <dc:creator/>
  <dc:description/>
  <dc:language>en-US</dc:language>
  <cp:lastModifiedBy>luca</cp:lastModifiedBy>
  <dcterms:modified xsi:type="dcterms:W3CDTF">2004-03-09T09:31:16Z</dcterms:modified>
  <cp:revision>95</cp:revision>
  <dc:subject/>
  <dc:title/>
</cp:coreProperties>
</file>